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C385-4986-472C-8054-4536B1B8D4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2 hours: Quiz – 10 mins; Reading 1 – 20 mins; Jigsaw reading – 20 mins; Speaking – 20 mins; Writing – 4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5018-45E2-41C9-9DD0-8DDF5B7E92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se questions in 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FC69-AC07-4CC5-84BC-7D11CF0084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/b  2/c  3/a  4/a  5/c  6/c  7/a  8/b     Learners can access this on-line, the teacher can print it out beforehand, or learners can read it from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AF11-D80C-4B48-BD66-9C032EDD30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ccess these on-line, or the teacher can print them out beforeh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3DFC-D3DC-43C6-94B5-403B4A8FA1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 and write these on the board for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6AAD-A071-4B15-8627-E5F5943C5C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tick their completed letters to the board, then read each other’s, pointing out where they are successful and where they could be impro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5DA2-1DE5-475F-9E39-05367FD1CD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1C2-D75F-4DFC-B3C1-D1667302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6B2-E565-43C9-A214-7B743106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147-4C20-46D5-AA66-2AF83B71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DB2-62BF-413A-8DE2-E519984C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2FF-A091-4169-9575-92701C78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F41-8C08-489C-84DC-4DEC5C83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CA84-B336-4A62-9BCE-5645FD41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3CA-2F9D-401F-BDDA-7F07B2FB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69D-76AE-4C78-84B3-79B47FC1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E9D-121F-4A38-8861-B4281CC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6FB-8E74-486A-BBB9-2BBE03D4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03F-F8E0-44FB-9A34-8F84905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982-E67F-4177-AA9E-782FA18A41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The_Spirit_of_Saro-Wiwa_fights_again_in_the_Niger_Delt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8920" y="2130120"/>
            <a:ext cx="539892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084640"/>
            <a:ext cx="7016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67240" cy="37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649680" y="333360"/>
            <a:ext cx="5175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16280"/>
            <a:ext cx="8737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Reading: articles about oi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b050"/>
                </a:solidFill>
                <a:latin typeface="Calibri"/>
              </a:rPr>
              <a:t>Speaking: about problems and solu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7030a0"/>
                </a:solidFill>
                <a:latin typeface="Calibri"/>
              </a:rPr>
              <a:t>Writing: a formal persuasive lett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780000" y="4255920"/>
            <a:ext cx="1695240" cy="239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9200" y="4300560"/>
            <a:ext cx="3340440" cy="22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804000" y="115920"/>
            <a:ext cx="228744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250920" y="115920"/>
            <a:ext cx="21603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Where is Ogoni? (one of the most polluted places in the world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ustralia      b) Nigeria    c)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. Why are people protesting in Ogon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They want more money      b) They want more oil   c) They want less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. How long have they had oil pollution in Ogoni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50 years   b) 10 years   c) 5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 How much money did Shell pay the Ogoni community in 1970 when the pollution was very bad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£168    b) £1680    c) £16,8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5. Who was Ken Saro-Wiwa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Shell worker who suffered from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Nigerian murderer who didn’t like Sh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protester who the Nigerian government kil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6. The levels of dangerous chemicals in the water in Ogoniland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9 times    b) 90 times    c) 900 ti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ore than the maximum WHO (World Health Organisation) lim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7. Life expectancy in the Niger Delta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45    b) 52    c) 5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8. After the oil spills in 2008 and 2009 that destroyed the area, Shell offered to pay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$5 million    b) $50 million    c) $500 mi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br>
              <a:rPr sz="40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The_Spirit_of_Saro-Wiwa_fights_again_in_the_Niger_Delt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igsaw read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vide into groups of 4 (A, B, C and D). Each read one of these articles about oil (C &amp; D are shorter articles), and find problems and solutions about oi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)  http://eewiki.newint.org/index.php/Ending_the_Oil_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) http://eewiki.newint.org/index.php/I_was_watched_by_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Universities_take_action_on_anti-fossil_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Football_must_stop_working_with_oil_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220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15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In groups of A, B, C and D, discus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600200"/>
            <a:ext cx="857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Calibri"/>
              </a:rPr>
              <a:t>OIL: problems and solution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454640" y="3716280"/>
            <a:ext cx="4440240" cy="29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66680" y="3933720"/>
            <a:ext cx="3421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 pairs, write a letter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) UEF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b) your local football team 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) your local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de them to stop investing in oil, and explain the reasons why this is important for the worl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7195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1:03:42Z</dcterms:created>
  <dc:creator>Linda Ruas</dc:creator>
  <dc:description/>
  <dc:language>en-US</dc:language>
  <cp:lastModifiedBy>Linda Ruas</cp:lastModifiedBy>
  <dcterms:modified xsi:type="dcterms:W3CDTF">2014-11-23T16:03:09Z</dcterms:modified>
  <cp:revision>10</cp:revision>
  <dc:subject/>
  <dc:title>Oil</dc:title>
</cp:coreProperties>
</file>